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1102-D717-4F33-8A07-F3E56CB6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92FE-3605-4D7C-9C89-1AA5EA2E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7B1D-4E56-483D-AB45-3A3810D80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5323-91AB-4E51-9480-69D796A3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ABAB-1667-4FA9-933D-1375431C0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C971-C124-4E79-8B8B-86A30C9C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90EE-54CA-4666-8D66-FDDE2DF8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5CBA-C174-4187-A73A-AEB9629D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5564-1752-4513-984A-85291C81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682F-87B9-4FDE-98A4-1239A55E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341C-4BCB-445D-8129-0AA8DE35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9D7D-A104-4C1E-A0F9-D6579A74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3EFD-6F16-4D22-8D1C-7A0F022A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6707-2C99-4E9D-B03F-83080266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6A95-C697-4DBB-97EF-24415343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885D-5E64-4531-9B16-04F38884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A9FE-61D7-4C5F-A560-BD131E76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791D-C704-4973-AA2D-1A7C44A2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E5E2-50FC-44C2-AFCA-30FD4B9B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0869-5AC0-4478-B722-6E4F731C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2BE7-4EA2-4932-9230-37322613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316E-CC41-4900-A776-373BF9ED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45EF-5E67-421B-8A27-AFE6E12E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B9DF-8D48-426D-AD87-7E0D40B4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7B1D-4F5C-4B4B-9E8E-9B67C90A2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FD8D-AAFA-4DC6-A527-D3884D047D3A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Pow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Separation of Power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prevent the federal government from abusing its pow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vided into three branches:  Executive, Legislative, Judi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anch possesses specific powers over the other branches, also know a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hecks and Bala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ecutive Branch Pow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 to make treaties (with Congress approv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 to make appointments (ambassadors, federal judges, etc.) (w/Congress approv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 to veto bi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 to grant pard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 of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luen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gislative Branch Pow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lare w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ise and support armed fo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te interstate commerce and foreign tr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mit new st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p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in mon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all laws necessary for carrying out delegated powers (Necessary &amp; Proper Cla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wer of th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r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Judicial Branch Pow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dge laws unconstitutional (judicial review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pret the la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Justice presides over trials of presidential impeach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the difference between Delegated, Reserved and Concurrent Power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gated = Federal (Nation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ed =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urrent = Federal +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es the separation of power among the three branches of government limit the power of each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2:50:33Z</dcterms:created>
  <dc:creator>Robert G. Finkbeiner</dc:creator>
  <dc:description/>
  <dc:language>en-US</dc:language>
  <cp:lastModifiedBy>PA Department of Education Classrooms for the Future</cp:lastModifiedBy>
  <dcterms:modified xsi:type="dcterms:W3CDTF">2012-09-24T12:58:46Z</dcterms:modified>
  <cp:revision>2</cp:revision>
  <dc:subject/>
  <dc:title>Separation of Powers</dc:title>
</cp:coreProperties>
</file>